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C440-DE7E-4069-8B24-D5FD04A01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B2D8-D05C-48A1-B6F9-17F49DDD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A434-3CEF-4FE0-B626-5C2C6303F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2839-5A15-4924-91C6-F961375C6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DCFA-5823-41F8-870A-A02F2AEBA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DD81-B83A-4A7D-9CF1-0BAC90AB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2CA4-B246-491C-950C-DD7ACBE4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DA35-5E65-4379-A081-C25223BE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1CBA-1A46-4EAA-8683-AEF80E13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63B6-D65D-438D-A0E2-6A6E132E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165B-8A2D-4DF3-AE54-F4085724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2228-9D1F-41BC-AABB-1326BEFB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1249-B661-46A3-A434-56B6A7C0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B010-54D2-4963-9670-28612A76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7FC3-B9C3-4E29-87AD-CA9B54B9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6774-6D08-49A8-A7EF-8D11267D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222A-CF22-4E2C-977C-AB353444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9805-105C-4E0B-A1CB-8E409AD5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3CB5-AE1F-492B-B486-DFD97624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EC21-096D-4FFC-A989-D5B1A31C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65A9-BB1B-476A-9059-9EB3EA80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35B3-C502-48A8-92A2-2B1836B1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2CA2-46D8-4202-AAF5-DFD87DA5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F6BF-D27D-4114-8C32-2702623E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BF0A-208B-4C89-8324-7EBC0146FD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7207-8E3D-4CE8-BFE4-D5435BF3A5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99ffcc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cc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042920" y="1844640"/>
            <a:ext cx="468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нтересные факты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68360" y="3645000"/>
            <a:ext cx="583416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 комнатных растениях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96200" y="218160"/>
            <a:ext cx="5501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ми государственный педагогический институ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акультет педагогики и методики нач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федра педагогики и методики дошко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0200" y="4940280"/>
            <a:ext cx="291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рманова Евгения Николаев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удентка 636 групп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623736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ыктывкар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549360"/>
            <a:ext cx="734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их только прозвищ ей не придумали! И «обезьянье дерево», «дерево жизни», «семейное счастье», и даже «денежное дерево»… А имя у неё что ни на есть невзрачное –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толстя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2060640"/>
            <a:ext cx="38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читается, что чем больше на ветках толстянки блестящих зеленых листьев – тем больше будет денег в твоем кошель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932360" y="3933720"/>
            <a:ext cx="2432160" cy="2592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9640" y="2565360"/>
            <a:ext cx="34927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987640" y="1413000"/>
            <a:ext cx="48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ное её имя – монстера делициоза, что означает «удивительная, деликатесная»… Всё дело в плодах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4886" t="0" r="4124" b="0"/>
          <a:stretch/>
        </p:blipFill>
        <p:spPr>
          <a:xfrm>
            <a:off x="395280" y="333360"/>
            <a:ext cx="2125800" cy="3816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73640" y="2637000"/>
            <a:ext cx="2698920" cy="3598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332000" y="4175280"/>
            <a:ext cx="475272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ветущая монстера – настоящее событие!!! Крупное соцветие лианы отдаленно напоминает по форме початок кукурузы, а образовавшиеся плоды обладают… ананасовым ароматом и вкусом!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1280" y="1268280"/>
            <a:ext cx="374328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веток с журавлиным носом – пеларгония, так как внутренняя часть цветка напоминает журавлиный клю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ларгония – прекрасный антисептик! Поможет вылечить отит, успокоит зубную бо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доме, где растет пеларгония, даже в жаркое время не будет мух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0" y="1413000"/>
            <a:ext cx="424980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16000" y="549360"/>
            <a:ext cx="69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Ботаникам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известно более 170 видов пеларго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2808360" cy="2022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9640" y="3789360"/>
            <a:ext cx="19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ональная пеларго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227640" y="1700280"/>
            <a:ext cx="2521080" cy="2693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443640" y="450864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арская пеларго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132000" y="2997360"/>
            <a:ext cx="2957760" cy="23065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348000" y="551664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урчавая пеларго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0" t="8941" r="0" b="0"/>
          <a:stretch/>
        </p:blipFill>
        <p:spPr>
          <a:xfrm>
            <a:off x="395280" y="1125360"/>
            <a:ext cx="3776760" cy="2578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11280" y="378936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мпельная пеларго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580000" y="620640"/>
            <a:ext cx="3349800" cy="2513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356000" y="3213000"/>
            <a:ext cx="2538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16000" y="4762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Комнатные растения можно разделить на 3 группы по их значению для челове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413000"/>
            <a:ext cx="525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растения, летучие выделения которых обладают выраженной антибактериальной, антивирусной, противогриппковой активностью в отношении воздушной микрофл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796000" y="1700280"/>
            <a:ext cx="2690640" cy="3672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84360" y="3213000"/>
            <a:ext cx="2128680" cy="3168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227640" y="5589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ющ обыкно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43280" y="443700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укуба япон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42920" y="47628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растения, летучия выделения которых улучшают сердечную деятельность, повышают иммунитет, обладают успокаивающими, противовоспалительными и другими лечебными действ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56360" y="2205000"/>
            <a:ext cx="2651040" cy="3389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732720" y="595008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и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2594160" cy="3459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9640" y="5877000"/>
            <a:ext cx="2232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авр благород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276720" y="2205000"/>
            <a:ext cx="2592360" cy="3456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708360" y="602136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им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26920" y="62064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 Растения – фитофильтры, поглощающие из воздуха вредные га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3203280" cy="2808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042920" y="5084640"/>
            <a:ext cx="23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лорофитум хохлат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940360" y="1341360"/>
            <a:ext cx="2676600" cy="4392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867280" y="587700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икус Бенджам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08:14:46Z</dcterms:created>
  <dc:creator>студент</dc:creator>
  <dc:description/>
  <dc:language>en-US</dc:language>
  <cp:lastModifiedBy>студент</cp:lastModifiedBy>
  <dcterms:modified xsi:type="dcterms:W3CDTF">2010-05-22T09:29:15Z</dcterms:modified>
  <cp:revision>6</cp:revision>
  <dc:subject/>
  <dc:title>Слайд 1</dc:title>
</cp:coreProperties>
</file>